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6A0-BAAE-4295-B953-A537AB02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5FD-206A-40AF-AFFE-B1791B5D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48D-2E71-4DD1-B62C-2BFE695C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5C3-C913-4380-BF3A-AD956FF9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9B52-D52D-4EE7-9A2D-F5E9D319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27A-7FD5-414E-81D5-FC6BC2FA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559-06AB-4B33-867A-1484A7CB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9B49-AF79-4031-A74D-6FE29684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8FF-26F6-424C-B76D-62713B51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8B8-0483-413D-AFA1-8D8F3931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127-6450-4456-A23F-D40040BB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160-C67E-4454-A789-749CFDDE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BF82-C89B-4C99-977C-31D9AC6201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5720" y="304920"/>
            <a:ext cx="3837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Arial"/>
                <a:ea typeface="方正姚体"/>
              </a:rPr>
              <a:t>论概理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838080"/>
            <a:ext cx="33526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铁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dztm@qq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850159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二）从以下几个方面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行为主体是监理企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理企业是指取得企业法人营业执照，具有监理资质证书的依法从事建设工程监理业务活动的经济组织。实行监理监理的建设工程，由业主委托具有相应资质条件的监理企业实施监理。只有监理企业才能按照独立自主的原则，以“公正的第三方”的身份开展监理业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需要业主的委托和授权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工程监理的实施需要业主的委托和授权业主也    即建设单位或项目法人，是委托监理的一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91440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有明确的依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关法律、法规、规章和标准、规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律是由全国人大及常委会制定的。行政法规是由国务院制定的。如《建筑工程质量管理条理》。部门规章是由建设部会同有关部门制定的。如《工程监理企业资质管理规定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工程建设文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国家批准的工程建设项目可行性研究报告、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项目选址意见书、建设用地规划许可证、建设工程规划许可证、批准的设计文件、施工许可证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建设工程委托监理合同和有关的建设合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838080"/>
            <a:ext cx="7620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98108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7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监理的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工程范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★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国务院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000.1.3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《建设工程质量管理条例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十二条     下列建设工程必须实行监理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家重点建设工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中型公用事业工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片开发建设的住宅小区工程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外国政府或者国际组织贷款、援助资金的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家规定必须实行监理的其他工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★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建设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001.1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《建设工程监理范围和规模标准规定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～七条     下列建设工程必须实行监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家重点建设工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依据《国家重点建设项目管理办法》所确定的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民经济和社会发展有重大影响的骨干项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中型公用事业工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项目总投资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元以上的下列工程项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供水、供电、供气、供热等市政工程项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科技、教育、文化等项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育、旅游、商业等项目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卫生、社会福利等项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他公用事业项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片开发建设的住宅小区工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建筑面积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平方米以上的住宅建设工程；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方米以下的住宅建设工程，可以实行监理。为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证住宅质量，对高层住宅及地基、结构复杂的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层住宅应当实行监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外国政府或者国际组织贷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援助资金的工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世界银行、亚洲开发银行等国际组织贷款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援助资金的项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国外政府及其机构贷款资金的项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国际组织或者国外政府援助资金的项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家规定必须实行监理的其他工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项目总投资额在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万元以上关系社会公共利益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公共安全的下列基础设施项目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煤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石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化工、天然气、电力、新能源等项目；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铁路、公路、管道、水运、民航以及其他交通运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业等项目；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邮政、电信枢纽、通信、信息网络等项目；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防洪、灌溉、排涝、发电、引（供）水、滩涂治理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水资源保护、水土保持等水利建设项目；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道路、桥梁、地铁和轻轨交通、污水排放及处理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垃圾处理、地下管道、公共停车场等城市基础设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项目；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f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生态环境保护项目；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g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其他基础设施项目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学校、影剧院、体育场馆项目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阶段范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适用于工程建设的决策阶段和实施阶段，目前主要是实施阶段中的施工监理（勘察、设计监理较少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三、建设工程监理的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一）服务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利用知识、技能、经验为业主提供服务，不必为被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方服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承包（工期、投资、质量、安全等），也没有义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承担承包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二）科学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理单位是知识密集型单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工程监理是为业主提供的一种高智能的技术服务，这就要求从事建设监理活动应当遵循科学的准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三）独立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理单位在人事上和经济上都是独立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工程监理的独立性，是公正性的基础和前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工程建设监理规定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：监理单位应按照“公正、独立、自主”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则开展工程建设监理工作，公平地维护项目法人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监理单位的合法权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：监理单位不得承包工程，不得经营建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材料、构配件和建筑机械、设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：监理工程师不得在政府机关或施工、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备制造、材料供应单位兼职，不得是施工、设备制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材料、构配件供应单位的合伙经营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四）公正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以事实为依据，以有关法律和有关合同为准绳，在主动维护业主的合法权益时，不损害和侵犯承建单位的合法权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由于监理是受业主委托为业主服务，很难真正做到绝对公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第一章  建设工程监理与相关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法规制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7239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§1-1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监理的基本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§1-2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监理理论基础和现阶段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§1-3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建设工程法律法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§1-4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建筑工程监理规范与相关文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§1-5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建设程序和建设工程管理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四、建设工程监理与政府工程质量监督的区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838080"/>
          <a:ext cx="8229600" cy="5197680"/>
        </p:xfrm>
        <a:graphic>
          <a:graphicData uri="http://schemas.openxmlformats.org/drawingml/2006/table">
            <a:tbl>
              <a:tblPr/>
              <a:tblGrid>
                <a:gridCol w="1447920"/>
                <a:gridCol w="3429000"/>
                <a:gridCol w="3352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建设工程监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政府工程质量监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施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监理单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质量（安全）监督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地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受业主委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代表政府强制监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依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法律、法规、技术标准、设计文件、合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法律、法规、技术标准、设计文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性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服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监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任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目目标控制（四控）、合同管理、信息管理、组织协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质量（安全）监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方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续、全过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阶段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控制手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经济、法律手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行政手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经济收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监理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质检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4290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56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五、建设工程监理的中心任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有效地控制建设项目的目标，也即控制工程项目投资、进度和质量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六、建设工程监理的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有利于提高建设工程投资决策科学化水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有利于规范工程建设参与各方的建设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三）有利于促使承建单位保证建设工程质量和使用安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四）有利于实现建设工程投资效益最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§1-2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监理理论基础和现阶段的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一、建设工程监理的理论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项目管理学，以组织论、控制论和管理学为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论基础，结合建设工程项目和建筑市场的特点而形成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门学科。研究范围包括管理思想、管理体制、管理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织、管理方法和管理手段。研究对象是建设工程项目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目标的控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二、现阶段建设工程监理的特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服务的对象具有单一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为建设单位服务，不为承建单位提供管理服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属于强制推行的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建筑法》第三十条   国家推行建筑工程监理制度。国务院可以规定实行强制监理的建筑工程的范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国务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0.1.3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建设工程质量管理条例》规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了必须实行监理的建设工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三）具有监督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事前、事中、事后控制。在事前、事中控制方面工作深度远超国际通常深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四）监理市场准入的双重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企业资质和人员资格双重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三、我国建设工程监理的发展趋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加强法制建设，走法制化道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以市场需求为导向，向全方位、全过程监理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施工阶段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决策阶段和勘察、设计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三）适应市场需求，优化工程监理企业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综合性和专业性监理企业相结合、大中小型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企业相结合的合理的企业结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四）加强培训工作，提高监理队伍人员的素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五）与国际惯例接轨，走向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§1-3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建设工程法律法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一、建筑工程法律法规体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一）建筑法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全国人大及其常委会审议颁布的属于建筑方面的各项法律，是建筑立法的最高层次，是建筑工程法律法规体系的核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二）建筑行政法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指国务院依法制定或者核准发布的属于建筑方面的法规。（包括国务院直接发布的，也包括由国家计委或建设部等相关部门联合发布的、由国务院批准的建筑法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三）部门规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由建设部根据国务院规定的职责范围，依法制定并发布的各项规章。（其中包括建设部与国务院相关部门联合制定并发布的规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四）地方法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由省、自治区、直辖市人大会及其常委会制定并颁步的建筑法规；或由省、自治区人民政府所在地（包括国务院批准的较大城市）的市人大会及其常委会制定的，并报省、自治区人大会及其常委会批准的建筑法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五）地方规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由省、自治区、直辖市和省、自治区人民政府所在地（包括国务院批准的较大城市）的人民政府，根据法律和国务院行政法规制定发布的建筑法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二、《建筑法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98.3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国人大常委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三、《建设工程质量管理条例》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0.1.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务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四、《建设工程安全生产管理条例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4.2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务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五、《工程建设监理规定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96.1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六、《建设工程监理范围和规模标准规定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1.1.17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七、《注册监理工程师管理规定 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6.4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八、《工程监理企业资质管理规定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7.8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§1-4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建筑工程监理规范与相关文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一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《建设工程监理规范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1.5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国家质量技术监督局和建设部联合发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属国家标准，不属法律法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二、《关于落实建设工程安全生产监理责任的若干意见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6.10.16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三、《房屋建筑工程施工旁站监理管理办法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2.7.17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§1-5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建设程序和建设工程管理制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一、建设程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一）基本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一项工程建设项目从设想、选择、评估、决策、设计、施工到竣工验收、投入生产或交付使用的整个建设过程中，各项工作必须遵循的先后次序的法则，是工程建设项目科学决策和顺利进行的重要保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§1-1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监理的基本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一、监理制产生的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一 ）必要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传统的工程建设管理体制已不适应我国经济发展的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传统的管理形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单位自筹自管形式和工程指挥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传统管理形式的缺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多是临时性的、非专业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理手段单一，强调行政管理手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投资管理权，却不对投资承当责任，也不负责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资的收回。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33720" y="457200"/>
            <a:ext cx="4876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提出项目建议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1371600"/>
            <a:ext cx="4952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制可行性研究报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209680"/>
            <a:ext cx="4952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根据咨询评估情况对建设项目进行决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3048120"/>
            <a:ext cx="5029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根据批准的可行性研究报告编制设计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3809880"/>
            <a:ext cx="5029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初步设计经批准后，做好施工前的各项准备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648320"/>
            <a:ext cx="5867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组织施工，并根据施工进度做好生产或动工前的准备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5486400"/>
            <a:ext cx="83055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项目按照批准的设计内容建成，经投料试车验收合格后正式投产交付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6324480"/>
            <a:ext cx="7543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生产运营一段时间，进行项目后评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二）建设工程各阶段工作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项目建议书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可行性研究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计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设准备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施工安装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生产准备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竣工验收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三）坚持建设程序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依法管理工程建设，保证正常建设秩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科学决策，保证投资效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顺利实施建设工程，保证工程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顺利开展建设工程监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四）建设程序与建设工程监理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设程序为建设监理提出了规范化的建设行为标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设程序为建设工程监理提出了具体的任务和服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设程序明确了工程监理企业在工程项目建设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坚持建设程序是监理人员的基本职业准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严格执行我国建设程序是结合中国国情推行建设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制的具体体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二、建设工程主要管理制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按照社会主义市场经济原则和现代企业制度进行工程管理，实行项目法人制、招标投标制、工程监理制和合同管理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一）项目法人责任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项目法人责任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目法人集责、权、利于一体，他们既是投资者，又是投资使用者和投资偿还者，并对工程项目实行全过程负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项目法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项目法人的设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组织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职责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建设项目董事会职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经理职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7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项目法人责任制与建设工程监理制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）项目法人责任制是实行建设工程监理的必要条件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）建设工程监理制是实行项目法人责任制的基本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障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二）工程招标投标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必须招标的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《招标投标法》第三条    在中华人民共和国境内进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下列工程建设项目包括项目的勘察、设计、施工、监理以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及与工程建设有关的重要设备、材料等的采购，必须进行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招标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大型基础设施、公用事业等关系社会公共利益、公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安全的项目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全部或者部分使用国有资金投资或者国家融资的项目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使用国际组织或者外国政府贷款、援助资金的项目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招标的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公开招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邀请招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招标程序及主要工作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招标准备阶段的主要工作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招标方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招标代理机构或办理招标备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制招标有关文件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招标投标阶段的主要工作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布招标广告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投标人进行资格预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织投标人现场勘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答投标人的疑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投标人编制投标文件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投标文件传送与签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决标成交阶段的主要工作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标、评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中标通知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双方订立书面合同 ；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投标人向有关行政监督部门提交招标投标情况的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报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追究违反招标投标法行为的法律责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判定招标无效，责令改正后重新招标；对单位负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或其他直接责任人或其他直接责任者给予行政或纪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分；没收非法所得并处以罚金，构成犯罪的依法追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刑事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三）建设工程监理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设工程监理的准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守法、诚信、公正、科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设工程监理的主要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工程项目建设投资、建设工期、工程质量和安全；进行工程建设合同管理和信息管理，协调有关单位的工作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设工程监理的实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业主委托监理的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直接委托和招标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签订建设工程监理合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组建项目监理组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建设工程监理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监理工程师主持、安排有关专业监理工程师编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理规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监理规划的基础上由专业监理工程师编写监理细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据监理规划和监理细则，规范化地开展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程达到竣工条件后，总监理工程师组织专业监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程师进行竣工预验收，并签署工程质量评估报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理业务完成后，项目监理机构应当向业主提交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程项目监理档案资料并做出监理工作总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工程监理企业实行资质审批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监理工程师实行资格考试和注册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四）合同管理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同管理制的基本内容是：工程项目建设的勘察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计、施工、材料设备采购和建设工程监理都要依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订立合同，各类合同都要有明确的质量要求、履约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和违约处罚条款。违约方要承当相应的法律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工程建设领域改革深化需要监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改革以来，我国对投资体制、工程管理体制进行了改革，实行项目法人责任制、招标投标制、合同管理制等，投资有偿使用，投资主体多元化，工程项目的承建主体向智力密集型的总承包单位为主转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加强与以上相适应的监督管理和横向制衡，业主需要社会化、专业化的支持力量以减少投资风险，需要第三方进行协调和约束，进行合同管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对外开放需要监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改善投资环境需要监理（国际惯例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我国建筑业进入国际建筑市场需要监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二）我国建设工程监理制度的起源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云南鲁布革水电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开工的西安三元高速公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世行项目京津高速公路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建设部向全国建设系统印发第一个建设监理文件《关于开展建设监理工作的通知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鲁布革工程管理经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云南鲁布革水电站引水工程（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.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里、直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的遂洞，调压井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的钢管斜井），是利用世界银行贷款的项目，日本大成建设公司承包，中标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4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元，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4.10~1986.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进度快、质量好、消耗低、投资省，主要经验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竞争机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程施工实行全过程总承包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施工现场的管理机构和作业队伍精干灵活，管理人员责权明确，劳务人员实行合同制，按需就地招聘，工资分配奖勤罚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科学组织施工，讲求综合经济效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鲁布革工程管理经验推动我国建筑业的改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快推行招标投标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和健全企业经营机制，使之成为自主经营、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负盈亏、自我发展、责权利紧密结合的经济实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推行项目经理负责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推行建设工程监理负责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三）推行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988-1993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年为试点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点单位：八市二部——北京、上海、天津、南京、宁波、沈阳、哈尔滨、深圳和能源、交通两部的水电、公路系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993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-1995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年为稳定发展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底全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省、自治区、直辖市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部推行监理制，受监工程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其中全国大中型水电工程、铁路工程、大部分国道和高等级公路工程全部实行了监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996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年至今为全面推行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二、建设工程监理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一）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具有相应资质的工程监理企业，接受建设单位（业主）的委托和授权，依据国家批准的工程建设文件、有关工程建设的法律、法规和建设监理合同及其他工程建设合同，承担其项目管理工作，并代表业主对承建单位的建设行为进行监控的专业化服务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10-11T13:34:18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